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8885-A15D-4FA6-99FE-D598B263C30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69FA-3FC9-4BDD-B219-6DB04B016B6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29Z</dcterms:modified>
  <cp:revision>117</cp:revision>
  <dc:subject/>
  <dc:title>スライド 1</dc:title>
</cp:coreProperties>
</file>